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8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366-07D7-4B63-BE00-2CBF64C3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EC2-DE16-4185-ABDB-EF26B6DA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A5C-882A-434C-8A95-459F4BA8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87CE-6C1B-4B23-ACFB-D4CCACF6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319-D629-4DFB-B166-6CE77584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8F1D-E62A-4E4C-880F-F3462777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D23-CDAD-4104-8233-8DB28F31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CF4-0C4B-4D2A-9D66-A2E2E9A7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62D-0DA3-4AB7-999F-99C5FE41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E7A-865D-4F67-A416-8B7270D1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E6-59F2-4315-8D45-5933FA70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D72-9874-4AD5-A444-D6454B1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E864-37DB-49B7-9862-07EF28AC5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00ff"/>
                </a:solidFill>
                <a:latin typeface="Handwriting - Dakota"/>
              </a:rPr>
              <a:t>How to Measure Triangles and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Handwriting - Dakota"/>
              </a:rPr>
              <a:t>By: Justin C. and Zachary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82640" y="13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86600" y="4419720"/>
            <a:ext cx="1401840" cy="1825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077320" y="2209680"/>
            <a:ext cx="7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What is a Polygon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lygon is a closed plane figure formed by three or more segments. A polygon is named by the number of its s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Cracked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352680"/>
            <a:ext cx="525780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Types of Polyg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olygon has a different number of sides. The prefix of the name of each polygon represents the number of sides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: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pt: 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: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: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t: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: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x: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449568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measure polygons and tri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figure you have into triangles. You multiply however many triangles you have by 1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80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2514600" cy="2085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182880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Example of formula for solving sums of angl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(triangles)x180= 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V="1">
            <a:off x="1600200" y="2971440"/>
            <a:ext cx="30492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3200400"/>
            <a:ext cx="10666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752480" y="39621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4232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2898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 the measure of each ang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ape you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count the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les in a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 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124440" cy="2182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981080" y="294336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9718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048120" y="2971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890000" y="3933720"/>
            <a:ext cx="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93372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…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95440" y="24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you minus the number of angles by two times 180. If you are calculating a square you would end up wi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=180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Handwriting - Dakota"/>
              </a:rPr>
              <a:t>How To Solve the measure of each angle in a shape…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 you simply divide the formula by the number of angles to find 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x = 180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     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=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nell Roundhand Bold"/>
                <a:ea typeface="ヒラギノ角ゴ Pro W3"/>
              </a:rPr>
              <a:t>Thanks for Watching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n, and I hope that you were enlightened by this slideshow we have worked on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esson is quite easy, especially if you approach it with a positive attitude. So good luck with all you do and have a nice lif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ch and Just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J. Gottlieb  Day School</cp:lastModifiedBy>
  <dcterms:modified xsi:type="dcterms:W3CDTF">2010-01-19T17:09:26Z</dcterms:modified>
  <cp:revision>2</cp:revision>
  <dc:subject/>
  <dc:title>How to Measure Triangles and Polygons</dc:title>
</cp:coreProperties>
</file>